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501-0174-4CE1-A071-F684387E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E73-8047-4F5B-9512-0B5EDD3C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CDE-4568-4D16-B94F-6404B322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670-686B-4E8A-8600-9F1B8763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37C-0AF0-41CF-8875-A1ED3D8C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BA7-7E9C-43BF-9198-3BB32954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C6D-F3E7-4276-8B45-FC4190CA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11A-7567-4A59-B7B9-436283EC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2E0-B72A-4522-8303-DD6573B7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399-A467-435A-85B6-79C85E47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F53-DA88-485D-A3A3-BA3F3702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0E0-8188-4C09-870D-ECBBB24B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DCE8-53ED-43FE-B8F9-840CB7FAD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72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276720" cy="103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Arabic Transparent"/>
              </a:rPr>
              <a:t>ملْ روحك اشتياقي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Arabic Transparent"/>
              </a:rPr>
              <a:t>هبه لي واستر خطا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 يرتوي منه غليلي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فيك لا غيرُ رجــاي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3200400" cy="88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 ربي    نورُ قلب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أنت حصنُ أتقي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املأن يا رب قلب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وحَ قدسٍ من عُل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251460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املأ روحَ حبٍ روحَ برٍ و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َ إيمانٍ وصبرٍ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حَ لطفٍ ووئ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06600" y="380880"/>
            <a:ext cx="6508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514600" cy="10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ملءُ روحك حياتي     ملءُ روحكَ الودي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ملءُ روحك </a:t>
            </a:r>
            <a:r>
              <a:rPr b="1" lang="en-US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امْنَحَنّي   </a:t>
            </a:r>
            <a:r>
              <a:rPr b="1" lang="en-US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يسوع   يا سميع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8:53:20Z</dcterms:created>
  <dc:creator>SUZANNE.MD</dc:creator>
  <dc:description/>
  <dc:language>en-US</dc:language>
  <cp:lastModifiedBy>HANI SAFI</cp:lastModifiedBy>
  <dcterms:modified xsi:type="dcterms:W3CDTF">2003-05-22T04:56:50Z</dcterms:modified>
  <cp:revision>3</cp:revision>
  <dc:subject/>
  <dc:title>PowerPoint Presentation</dc:title>
</cp:coreProperties>
</file>